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915-9132-4612-8375-E5897875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2AA-81A4-4992-A93B-A20E1B22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85A-C72E-4F19-94E6-43B134AC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8F7-7433-4B29-9054-E1347C13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F76F-6627-4166-B0FC-B2C2B429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1A80-79DC-4F46-A6B4-81C7C0F3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F65-483D-4EB1-8E22-5C203F5D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767-23D9-4F71-A434-8B3D3114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BDA4-D793-4A13-B333-15BEA280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489-09AA-4AC5-BBFB-7601864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E08B-7F2A-4688-B4D1-E4BB3C4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1AB-9414-4107-916D-8D7A3FCE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FE06-FB0F-4233-B48F-9EE9A27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C80D-21A0-4CAD-8C4F-B074431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F83D-DAFD-455B-B94E-B9F5E30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10B-A4B7-49AF-B0ED-9CB9A5AB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6676-0FFC-408B-B509-5CBC0C46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39A-64BC-477D-BEC0-162C2DDF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9EE-93F9-469B-8E1B-29C969E8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2B1-7A2B-4F91-8D15-83F01E5D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764-B516-451E-AAAF-623DB4A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786-CD77-4872-8952-5BE8CED4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CB7-0FEE-4260-8BD9-D64BCE1B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151-C64F-49A1-A829-0125C0F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BC7-CF30-483E-849A-444CF755AC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036-E6B3-4281-B945-FE61D9A3F3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Have You Reta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0" y="609480"/>
            <a:ext cx="466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rter 3, Lesson 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The Days of the Judg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lagu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Stubborn Will of Phar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gue: Death of First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Angel Passes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over Feast Mem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Egypt To Sina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Deliverance At Re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ptized Unto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 of Victory And Glory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ter Waters Made Sw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val At The Mount of God: Horeb /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ESOME GOD COMES DOWN UPON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d Makes A Coven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grees To Do All God S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n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bernacle: God Dwelling Among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aronic Priesthood: Lev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of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For Cleanliness &amp; Ho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Sinai To Kades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Food &amp;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Aaronic Priest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Inability To Take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bedience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gnment To 40 Year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nd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dged In By Fear of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Years To Go Nowhere Desi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eration Hands Down Poor Examples In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 The Plains of Mo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k, King of Moab Wants Balaam To Curse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 Enticed To Sin At Baal-Pe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nication and 24,000 F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ating The Midia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ing Moses’ Successor: Josh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ben &amp; Gad Get Their Inheritance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Cities of Refu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teronomy: Moses’ Spee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ings and Curses: Obedience / Dis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g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urney’s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ing The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pies In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ime To Take The 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Josh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Years of Wandering Now Cl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Now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d Land Is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 Is Assured That God Will Be With Him In His Leadership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The Soldier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Win Great Battles With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Lose Without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e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 &amp; 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Into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ns, Hardship,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n &amp; 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ceptable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lousy / Mu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lo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ly Sinfu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 Finds 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ed To Build 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 Destroys All Land-Dwelling Air Br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nimals In Ark Would Repop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Souls Saved Throug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att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’s Three Sons: Shem, Ham, Japh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scendants Trying To Keep Population In On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ower of Babel For Corrupt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nfounds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s Divide According To Language And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of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By God Out of Ur of Chal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d A Land God Would Show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ather A “Great N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ring The Whole World A “Blessing” (Jes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d To Typify The Sacrificial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ing To Come Through Son, Isa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of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nue of the Promises to 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anter of Es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fied Church Supplanting National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el – House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nue of th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Is Named “Isra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 of Isra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ben, Simeon, Levi, Judah, Gad, Da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achar, Zebulun, Naphtali, Asher, Joseph, Benja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Carries Messianic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 Saves Family In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all of Mo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Generations / New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Bond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Baby Moses Was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’ Prestige I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Flees To Midian For 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From A Burning B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: Delivering Israel From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13:48:05Z</dcterms:created>
  <dc:creator>Terry W. Benton</dc:creator>
  <dc:description/>
  <dc:language>en-US</dc:language>
  <cp:lastModifiedBy>Don Vines</cp:lastModifiedBy>
  <dcterms:modified xsi:type="dcterms:W3CDTF">2004-12-31T15:37:56Z</dcterms:modified>
  <cp:revision>6</cp:revision>
  <dc:subject/>
  <dc:title>Summary</dc:title>
</cp:coreProperties>
</file>